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95B-C759-441F-AE6D-42A457A2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DB3-EE66-4828-983A-C7100A6D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5EAA-D4A7-4A87-A989-A9FE715FD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B7A1-8DB2-4F49-A35E-997BED20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29C62-9D9E-494F-AB37-3F322D6D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E7E9E-37FF-49CA-84F4-C2559DD8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7A7DD-322D-4BBB-85D7-69F63696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8D000-BA03-4EB7-8C7F-4992D170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268D5-615F-4C86-B49B-BE4A5BA5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BED99-F0E9-4480-B8FA-AF8E13442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B1CA1-7D6D-4A20-B5CF-7B3C1B7A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D78-4BF7-41B4-AED3-5DEBA9B8C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81C0F-0262-45E2-85E4-3C345875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E273E-0DFF-485B-AE38-9188A2C3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E3873-F427-4029-9D89-6E52B6DF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7549F-19A1-4A93-B459-E45907457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5C1FA7-76AC-4FDC-A352-F37B18D0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B7634-0C3F-4ED0-A7B6-308E6B65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E474B-A870-4E14-885D-9A21C8D1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93088-180D-4D93-82E6-A72E0F517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2B506-460B-484C-BFA0-3032BC14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74C9E-46FB-43E9-8DD6-B49D783E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B4D0-8EC1-43B9-8853-0B01D79C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15246-CBFA-4A59-842E-4EE95BF0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595EF-8595-44BD-B339-B4170A21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5C7E0-D442-4191-A11B-E72C7F55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1F660-4326-4EE8-AAFE-A9704023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31AB0-899C-4DFC-8717-666DA640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95195-347D-444E-8E79-0093424A7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C6049-5D19-450C-B4AD-0C153A70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B6F-40E2-47CC-A8F1-E5FD3CF4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4398-CF91-4053-9BAB-DD74D657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5AE-29AC-4A9C-A5AE-7D7FAD62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DBEE-253A-4375-B580-781FE979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EDCD-70E3-4C02-9B72-C650F1DC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A462-53F8-4E49-B781-C18CBCD8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E269-7547-46F1-8BD6-62AB32E20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B7CF-00EB-41E5-8C37-95024606DE9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E14F-828F-46EB-B027-50E40414B6D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5157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saband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553440" cy="3834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82920" y="522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anto daño me has h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408720" cy="3754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51280" y="57801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lim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639880" y="907920"/>
            <a:ext cx="4019760" cy="4896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59280" y="56358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lebra ponsoñ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5761080" cy="40626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Rata de dos pat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59280" y="527688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deshech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547640" y="1676520"/>
            <a:ext cx="6191280" cy="362412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16360" y="527688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332000" y="1590840"/>
            <a:ext cx="6408720" cy="3709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132000" y="5589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de dos p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92360" y="1433520"/>
            <a:ext cx="5904000" cy="42274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16360" y="5734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estoy hablando a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4214520" cy="47530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360" y="5661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porque un bicho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88000" cy="4075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56000" y="5157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un siendo el mas mal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03280" y="1558800"/>
            <a:ext cx="6408720" cy="36036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Historia de una ca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060720" y="56610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omparado cont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256360" cy="405000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627280" y="515772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se queda muy chi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74920" y="1557360"/>
            <a:ext cx="6192720" cy="3637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71640" y="527688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sanguijue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547640" y="1617840"/>
            <a:ext cx="5977080" cy="3682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916360" y="52038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aldita cucarac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76360" y="1471680"/>
            <a:ext cx="6335640" cy="37576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520380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que infectas donde p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476360" y="1724040"/>
            <a:ext cx="6264360" cy="35053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71640" y="54198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que hieres y que m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763640" y="1484280"/>
            <a:ext cx="5616720" cy="3965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37080" y="56358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limañ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122560" y="1484280"/>
            <a:ext cx="4681440" cy="41702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13200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lebra ponsoñ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979640" y="1490760"/>
            <a:ext cx="5329080" cy="42116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059280" y="55641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desecho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60360" y="1685880"/>
            <a:ext cx="6624720" cy="39038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43280" y="57801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835280" y="1515960"/>
            <a:ext cx="5689440" cy="42894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nb-NO" sz="4400" spc="-1" strike="noStrike">
                <a:solidFill>
                  <a:srgbClr val="000000"/>
                </a:solidFill>
                <a:latin typeface="Arial"/>
              </a:rPr>
              <a:t>Rata de dos pat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Canta: Paquita la del bar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59280" y="55641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de dos p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619280" y="1533600"/>
            <a:ext cx="6119640" cy="39830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916360" y="527688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te estoy hablando a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332000" y="1436760"/>
            <a:ext cx="6769080" cy="386388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627280" y="54198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porque un bicho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476360" y="1270080"/>
            <a:ext cx="6264360" cy="41274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56000" y="5516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un siendo el mas mald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330200" y="1557360"/>
            <a:ext cx="6337440" cy="40003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56358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omparado cont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332000" y="1220760"/>
            <a:ext cx="6769080" cy="442584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771640" y="5851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se queda muy chiqu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4608360" cy="5184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1640" y="55641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Me estas oyendo inu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690560" y="1557360"/>
            <a:ext cx="5689800" cy="39718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132000" y="513252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hiena del inf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332000" y="1387440"/>
            <a:ext cx="6481800" cy="369720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340000" y="52038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uanto te odio y te despre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842160" cy="40053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39640" y="1141560"/>
            <a:ext cx="7993080" cy="4808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48000" y="51325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Rata Inmu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06560" y="1341360"/>
            <a:ext cx="5329440" cy="3819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 advTm="3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348000" y="47721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nimal rastr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763640" y="1393920"/>
            <a:ext cx="5832720" cy="340344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132000" y="515772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scoria de la v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264360" cy="368928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0380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defecio mal h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63640" y="1268280"/>
            <a:ext cx="5616720" cy="39402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17840" y="530064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Infra hum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476360" y="1746360"/>
            <a:ext cx="6191280" cy="355428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59280" y="530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expectro del infi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480360" cy="3803760"/>
          </a:xfrm>
          <a:prstGeom prst="rect">
            <a:avLst/>
          </a:prstGeom>
          <a:ln w="0">
            <a:noFill/>
          </a:ln>
        </p:spPr>
      </p:pic>
    </p:spTree>
  </p:cSld>
  <p:transition spd="slow" advTm="1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22:44:20Z</dcterms:created>
  <dc:creator/>
  <dc:description/>
  <dc:language>en-US</dc:language>
  <cp:lastModifiedBy>Arrecho</cp:lastModifiedBy>
  <dcterms:modified xsi:type="dcterms:W3CDTF">2005-11-01T00:42:53Z</dcterms:modified>
  <cp:revision>10</cp:revision>
  <dc:subject/>
  <dc:title>Slide 1</dc:title>
</cp:coreProperties>
</file>