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E1C-758C-4AAD-B8C4-7A2F6E68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5EA-8A75-4248-9CB3-474A8D42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4C67-1266-407A-B84F-7249B354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5F0-E1CA-4C5B-B7A9-9572D5D25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4453-5FC8-4C05-A205-CCFB5332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2DDD-F9ED-48E1-948B-D273674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DFEC-490B-498B-9305-2FBBE7E6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5A8A-CC79-47A6-AB20-27CFD189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529-BB48-4A1A-B732-7228797A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6B7-5E51-4B05-A378-A05B2022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A2D9-9C78-48F5-82F9-4873BBFA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B29C-4F4E-46EC-98DA-23A2F5B9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7B52-4A7A-48B7-B2CB-46E7BC929B6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93920" y="0"/>
            <a:ext cx="45547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92040"/>
            <a:ext cx="9144000" cy="60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6:55:39Z</dcterms:created>
  <dc:creator>Rafael NRS</dc:creator>
  <dc:description/>
  <dc:language>en-US</dc:language>
  <cp:lastModifiedBy>Rafael NRS</cp:lastModifiedBy>
  <dcterms:modified xsi:type="dcterms:W3CDTF">2007-08-09T16:56:17Z</dcterms:modified>
  <cp:revision>1</cp:revision>
  <dc:subject/>
  <dc:title>Slide 1</dc:title>
</cp:coreProperties>
</file>