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71EE-7F02-4E2A-AF60-C64E14D1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8E2-7DFA-41BD-803B-D1E85292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B30-C1A6-42CA-A780-65A35E56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4F21-C0B6-46F8-A941-129E20AB1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2A7-5892-46AA-A586-0E2AFDAC1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87D-CA93-452D-9CB6-7C37B888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664-203D-46B4-B158-36047B65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027-3E6B-4231-92F7-70A30F63F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EBB5-B737-48E1-81EF-A6F95348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817-726A-4E20-9875-B812CF03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7AB9-2C00-4830-9700-1DEA543C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68C-3029-4355-A4F3-068693E9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D9E3-690F-4B14-8A4A-E45DC89D12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mpieza por hacer lo necesario, luego lo que es posible... y de pronto estarás haciendo lo imposible"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na vez que envíes el mensaje aprieta F6 y veras lo que te aparece....insólito pero cierto.....da miedo pero es cierto....suerte. </a:t>
            </a:r>
            <a:br>
              <a:rPr sz="1400"/>
            </a:b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                                                                      </a:t>
            </a:r>
            <a:br>
              <a:rPr sz="40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anda esto a 15 personas en los próximos 143 minutos, luego presiona F6 y el nombre de quien t ama aparecerá en letra grande, da tanto miedo por qué es real pero si rompes esta cadena serás castigado con problemas en sus próximas relaciones de por vida copia y pégalo .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631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2:23:35Z</dcterms:created>
  <dc:creator>Said</dc:creator>
  <dc:description/>
  <dc:language>en-US</dc:language>
  <cp:lastModifiedBy>Angelica Morales (YAM0047 - INMEX-KCB3WTD)</cp:lastModifiedBy>
  <dcterms:modified xsi:type="dcterms:W3CDTF">2006-01-23T17:11:28Z</dcterms:modified>
  <cp:revision>1</cp:revision>
  <dc:subject/>
  <dc:title>Empieza por hacer lo necesario, luego lo que es posible... y de pronto estarás haciendo lo imposible" Una vez que envíes el mensaje aprieta F6 y veras lo que te aparece....insólito pero cierto.....da miedo pero es cierto....suerte.                                                                                                                                     Manda esto a 15 personas en los próximos 143 minutos, luego presiona F6 y el nombre de quien t ama aparecerá en letra grande, da tanto miedo por qué es real pero si rompes esta cadena serás castigado con problemas en sus próximas relaciones de por vida copia y pégalo .. </dc:title>
</cp:coreProperties>
</file>