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1738-5314-4778-8CFA-029EE1287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4F6D-E004-43D3-8894-B7744E6D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D40C-30A3-4F41-AB45-E5DF8CF7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3DF-780B-457F-914D-6138496A8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4CE7-9F13-4015-8D33-6A921E4B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5B64-4B7E-4A2A-8261-7BAEABA0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2048-0CE9-454B-8B08-53B95349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D07-2E48-4FE6-AA36-C0FA1A1F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5BB2-8D18-4804-8094-4E73B024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EDB9-10A6-4436-87AE-140A80A2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ABD-5041-4B06-B5CE-C2A5D473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0AB0-EE34-47E6-B803-D9FD5948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E252-97D8-49E5-8F64-34340BF084F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pezMurphy001revistatropasusa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762120" y="5638680"/>
            <a:ext cx="7619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¿Quien pensaría de estas personas? limpi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ulcras, con familias, siendo unos bueno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esposos, excelentes padres, buenos amigo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iudadanos ejemplares en E U A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buso" descr="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ninoiraq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oldadospolac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orturas" descr=""/>
          <p:cNvPicPr/>
          <p:nvPr/>
        </p:nvPicPr>
        <p:blipFill>
          <a:blip r:embed="rId1"/>
          <a:stretch/>
        </p:blipFill>
        <p:spPr>
          <a:xfrm>
            <a:off x="838080" y="6480"/>
            <a:ext cx="7315200" cy="68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orturas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orturas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orturas12" descr=""/>
          <p:cNvPicPr/>
          <p:nvPr/>
        </p:nvPicPr>
        <p:blipFill>
          <a:blip r:embed="rId1"/>
          <a:stretch/>
        </p:blipFill>
        <p:spPr>
          <a:xfrm>
            <a:off x="228600" y="90360"/>
            <a:ext cx="891540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orturas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orturas14" descr=""/>
          <p:cNvPicPr/>
          <p:nvPr/>
        </p:nvPicPr>
        <p:blipFill>
          <a:blip r:embed="rId1"/>
          <a:stretch/>
        </p:blipFill>
        <p:spPr>
          <a:xfrm>
            <a:off x="0" y="343080"/>
            <a:ext cx="4651200" cy="6172200"/>
          </a:xfrm>
          <a:prstGeom prst="rect">
            <a:avLst/>
          </a:prstGeom>
          <a:ln w="0">
            <a:noFill/>
          </a:ln>
        </p:spPr>
      </p:pic>
      <p:pic>
        <p:nvPicPr>
          <p:cNvPr id="65" name="torturas18" descr=""/>
          <p:cNvPicPr/>
          <p:nvPr/>
        </p:nvPicPr>
        <p:blipFill>
          <a:blip r:embed="rId2"/>
          <a:stretch/>
        </p:blipFill>
        <p:spPr>
          <a:xfrm>
            <a:off x="4572000" y="304920"/>
            <a:ext cx="4759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orturas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orturas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914400" y="5562720"/>
            <a:ext cx="8229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siendo unos de los paises del primer mundo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una de las potencias mundiales mas podererosas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teniendo en su país las Universisdades mas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prestigiadas....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torturas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orturas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orturas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torturas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orturas3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orturas4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orturas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orturas6" descr=""/>
          <p:cNvPicPr/>
          <p:nvPr/>
        </p:nvPicPr>
        <p:blipFill>
          <a:blip r:embed="rId1"/>
          <a:stretch/>
        </p:blipFill>
        <p:spPr>
          <a:xfrm>
            <a:off x="0" y="-41400"/>
            <a:ext cx="9144000" cy="694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orturas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orturas9" descr=""/>
          <p:cNvPicPr/>
          <p:nvPr/>
        </p:nvPicPr>
        <p:blipFill>
          <a:blip r:embed="rId1"/>
          <a:stretch/>
        </p:blipFill>
        <p:spPr>
          <a:xfrm>
            <a:off x="1851120" y="0"/>
            <a:ext cx="544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sresto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457200" y="5029200"/>
            <a:ext cx="83818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y contando con la preparación intelectual que tienen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contando con genios en las diferentes ramas Física, Química,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ff00"/>
                </a:solidFill>
                <a:latin typeface="Arial Black"/>
              </a:rPr>
              <a:t>Matemáticas, Astronomía, Medicína, etc</a:t>
            </a:r>
            <a:endParaRPr b="0" lang="en-US" sz="1000" spc="1" strike="noStrike">
              <a:ln w="0">
                <a:noFill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orturasDetenidos01" descr=""/>
          <p:cNvPicPr/>
          <p:nvPr/>
        </p:nvPicPr>
        <p:blipFill>
          <a:blip r:embed="rId1"/>
          <a:stretch/>
        </p:blipFill>
        <p:spPr>
          <a:xfrm>
            <a:off x="0" y="-9360"/>
            <a:ext cx="9144000" cy="70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orturasDetenidos03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TorturasDetenidos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orture10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ushpavo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228600" y="34290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pero eso si despues de haber demostrado al mundo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entero y a los habitantes del Medio Oriente de 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su poderío, celebran el día de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99ff66"/>
                </a:solidFill>
                <a:latin typeface="Arial Black"/>
              </a:rPr>
              <a:t>"acción de gracias"</a:t>
            </a:r>
            <a:endParaRPr b="0" lang="en-US" sz="1000" spc="1" strike="noStrike">
              <a:ln w="0">
                <a:noFill/>
              </a:ln>
              <a:solidFill>
                <a:srgbClr val="99ff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12copi" descr=""/>
          <p:cNvPicPr/>
          <p:nvPr/>
        </p:nvPicPr>
        <p:blipFill>
          <a:blip r:embed="rId1"/>
          <a:stretch/>
        </p:blipFill>
        <p:spPr>
          <a:xfrm>
            <a:off x="609480" y="-19080"/>
            <a:ext cx="7848720" cy="6877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838080" y="457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¿Gracias, gracias de que, de sus violaciones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y abusos?....¿para que cuando lleguen a su 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latin typeface="Arial Black"/>
              </a:rPr>
              <a:t>País, los vean como héroes?, ...</a:t>
            </a:r>
            <a:endParaRPr b="0" lang="en-US" sz="1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95280" y="2286000"/>
            <a:ext cx="7086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¿Para que cuando lleguen a sus casas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los vean como esposos, padres, amigos y 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vecinos ejemplares?....Aunque para mucha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gente ya se le olvidó, todo esto queda marcado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</a:rPr>
              <a:t>para la historia,</a:t>
            </a:r>
            <a:endParaRPr b="0" lang="en-US" sz="1000" spc="1" strike="noStrike">
              <a:ln w="0">
                <a:noFill/>
              </a:ln>
              <a:solidFill>
                <a:srgbClr val="00cc00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95280" y="5638680"/>
            <a:ext cx="70866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y eso depende de tí, que borres este e-mail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o lo compartas con tus contactos, para que n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mos cuenta de lo que es capaz el Ser Humano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n tal de demostrar ¡¡PODER!!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40463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28600" y="5486400"/>
            <a:ext cx="8572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elementos de sus fuezas armadas se hayan comportado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o unas verdaderas bestias, como unos neandertales,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cometiendo un sin fin de abusos y violaciones a los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0">
                  <a:noFill/>
                </a:ln>
                <a:solidFill>
                  <a:srgbClr val="ff0000"/>
                </a:solidFill>
                <a:latin typeface="Arial Black"/>
              </a:rPr>
              <a:t>derechos civiles, </a:t>
            </a: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1" strike="noStrike">
              <a:ln w="0">
                <a:noFill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0441_ga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28600" y="5715000"/>
            <a:ext cx="8534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de los civiles y violando el tratado de Gibraltar;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las imagenes que veras son fuertes no aptas para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personas susceptibles...solo tu puedes ser el Juéz</a:t>
            </a:r>
            <a:endParaRPr b="0" lang="en-US" sz="1000" spc="1" strike="noStrike">
              <a:ln w="9360">
                <a:solidFill>
                  <a:srgbClr val="800000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nternacionales-20050130-03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torturas11" descr=""/>
          <p:cNvPicPr/>
          <p:nvPr/>
        </p:nvPicPr>
        <p:blipFill>
          <a:blip r:embed="rId2"/>
          <a:stretch/>
        </p:blipFill>
        <p:spPr>
          <a:xfrm>
            <a:off x="4529160" y="0"/>
            <a:ext cx="461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ninairaqu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Iraque-Prisiomeiro%2520e%2520Pa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ijosdeSadda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4T07:46:02Z</dcterms:created>
  <dc:creator>SEP</dc:creator>
  <dc:description/>
  <dc:language>en-US</dc:language>
  <cp:lastModifiedBy>Reyna Soto</cp:lastModifiedBy>
  <dcterms:modified xsi:type="dcterms:W3CDTF">2006-03-03T21:42:54Z</dcterms:modified>
  <cp:revision>3</cp:revision>
  <dc:subject/>
  <dc:title>Presentación de PowerPoint</dc:title>
</cp:coreProperties>
</file>