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2C11-9C16-4165-B83D-B3AD3593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011-BE21-46F2-BC25-C3373734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60A5-B835-4866-AFE2-F3B34B467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E952-D587-4315-87A0-14B5EA63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F9D-FF57-428E-A71E-966F26D1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153-E31E-47AC-92F0-3B5C99A4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300-C9BA-45E3-BB07-0839DF3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356-A072-4430-B4EC-BD0DD922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7E6-6973-4AF0-A335-60CB5A8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910A-920C-48A4-A26B-5B1472DB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A00-D7E8-4889-A77C-0FB8416A3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F35-76B8-48E9-8316-6B901A09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211-FD6A-4214-986B-4A51B6FB6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916360" y="1628640"/>
          <a:ext cx="324000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6360" y="1628640"/>
                    <a:ext cx="3240000" cy="22860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221000"/>
            <a:ext cx="82090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NO SOMOS DOGMÁTICOS; es la realidad; son las relaciones sociales las que determinan y condicionan las categorías con las que las interpretamos, y no al revé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60280"/>
            <a:ext cx="8604360" cy="86256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Marxismo-Leninism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sigue vigente como Teoría Revolucion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799308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NO SOMOS VOLUNTARISTAS,  ni actuamos sin los lineamientos ideológicos que nos orienten a ser certero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595008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20160000">
            <a:off x="250920" y="18864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324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 el </a:t>
            </a:r>
            <a:r>
              <a:rPr b="1" i="1" lang="en-US" sz="2800" spc="-1" strike="noStrike">
                <a:solidFill>
                  <a:srgbClr val="cc0000"/>
                </a:solidFill>
                <a:latin typeface="Arial"/>
              </a:rPr>
              <a:t>PUEBLO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Fuerza Principal Político-Mil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reando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CONCIENCI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con el </a:t>
            </a:r>
            <a:r>
              <a:rPr b="1" i="1" lang="en-US" sz="2400" spc="-1" strike="noStrike">
                <a:solidFill>
                  <a:srgbClr val="cc0000"/>
                </a:solidFill>
                <a:latin typeface="Arial"/>
              </a:rPr>
              <a:t>FUS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como guía de la luch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istórica y cons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 LA RAZON Y LA FUERZA, LOS TRABAJADORES AL P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ÓLO PODEMOS LA VÍA REVOLUCI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ATE  O M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259920"/>
            <a:ext cx="7920000" cy="626436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Un fraternal Saludo Revolucionario a todos los combatientes del mun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Compañeros persegu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Combatientes prisioneros de cuerpo, pero libres en dign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resisten la ofensiva imperi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no se detienen por mezquinos intereses particul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todos los que pueden seguir de pie con la frente en al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 los que siguen con justeza haciendo camino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0160000">
            <a:off x="179280" y="259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160000">
            <a:off x="7758000" y="5483160"/>
            <a:ext cx="1152720" cy="8794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over dir="u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20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20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2000"/>
                                        <p:tgtEl>
                                          <p:spTgt spid="1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20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826920" y="1052640"/>
          <a:ext cx="7115400" cy="5105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052640"/>
                    <a:ext cx="71154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cover dir="u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284720" y="1989000"/>
            <a:ext cx="2579760" cy="2735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rot="20160000">
            <a:off x="395280" y="620280"/>
            <a:ext cx="495360" cy="3938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404640"/>
            <a:ext cx="824400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IGUIENDO LAS HUELLAS DE NUESTROS </a:t>
            </a:r>
            <a:r>
              <a:rPr b="0" lang="es-CL" sz="2400" spc="-1" strike="noStrike">
                <a:solidFill>
                  <a:srgbClr val="ff0000"/>
                </a:solidFill>
                <a:latin typeface="Arial"/>
              </a:rPr>
              <a:t>PUEBLOS INDO-AMERIC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852640"/>
            <a:ext cx="316872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orque la primera batalla que se dio contra el capitalismo venido a nuestra América fue con toda la valentía, rebeldía y fuerz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5589720"/>
            <a:ext cx="748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 el grito de guerra dado hace más de 500 años, sigue vivo con la misma justeza que nuestra historia cono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89000"/>
            <a:ext cx="104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635280" y="2349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rot="20160000">
            <a:off x="395280" y="33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7680" y="763920"/>
            <a:ext cx="8103960" cy="45972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una visión Estratégica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ucha Latinoamerican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060640"/>
            <a:ext cx="2880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a continuidad del Ejército Libertad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91280" y="3645000"/>
            <a:ext cx="2952720" cy="1922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 construir una sola fuerza, que golpee mas fuerte y duro, al enemigo invas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5791320"/>
            <a:ext cx="590544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por la libertad de nuestra Indo-Améric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" dur="25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076720" y="2060640"/>
          <a:ext cx="2160720" cy="259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2060640"/>
                    <a:ext cx="216072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 rot="20160000">
            <a:off x="826920" y="549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605160"/>
            <a:ext cx="6480360" cy="3988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 POR EL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ERNACIONALISMO PROLETARI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63640" y="5734080"/>
            <a:ext cx="82803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que la lucha antiimperialista es una estrategia que no la sacrificamos por ningún paso táctico que la arries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4211640" y="1557360"/>
            <a:ext cx="1873080" cy="2376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rot="20160000">
            <a:off x="539640" y="47592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71640" y="247680"/>
            <a:ext cx="8093160" cy="825480"/>
          </a:xfrm>
          <a:prstGeom prst="rect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ravés, de la unificación de la lucha, y de l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ordinación de  las Vanguard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4797360"/>
            <a:ext cx="842472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Y porque en nuestro país, al igual que la necesidad de los pueblos explotados y oprimidos del mundo, no puede quedar entregado a una guerra encubierta, sin la convicción que es posible revertir y ven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cover dir="u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050920" y="1341360"/>
            <a:ext cx="5473800" cy="587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 rot="20160000">
            <a:off x="1763640" y="5013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496400">
            <a:off x="7308360" y="501336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3360"/>
            <a:ext cx="8064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 eso creemos que u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6021360"/>
            <a:ext cx="72007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s un imperativo Estratégic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2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3" dur="250" autoRev="1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16000" y="-1251000"/>
            <a:ext cx="582948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"/>
          <p:cNvSpPr/>
          <p:nvPr/>
        </p:nvSpPr>
        <p:spPr>
          <a:xfrm rot="20160000">
            <a:off x="1116000" y="1341000"/>
            <a:ext cx="34308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1496400">
            <a:off x="6803640" y="1052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62064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Y 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797360"/>
            <a:ext cx="828036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Nuestro desarrollo Táctico para la UN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ver dir="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0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1" dur="250" autoRev="1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24000" y="1341360"/>
            <a:ext cx="3861000" cy="3311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419640" y="2708280"/>
            <a:ext cx="12967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71640" y="5300640"/>
            <a:ext cx="89643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TODAS LAS FUERZAS DE LA HISTORI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76280"/>
            <a:ext cx="71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r eso, SEGUIMOS ADELA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cover dir="u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116000" y="260280"/>
            <a:ext cx="6058080" cy="6953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2427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EJERCITO POPULAR REVOLUCIONARIO</a:t>
            </a:r>
            <a:endParaRPr b="0" lang="en-US" sz="28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58920" y="1628640"/>
            <a:ext cx="5829120" cy="502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6288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BATALLON  CHILE</a:t>
            </a:r>
            <a:endParaRPr b="0" lang="en-US" sz="2400" spc="1" strike="noStrike">
              <a:ln w="442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916280"/>
            <a:ext cx="3429000" cy="274320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68360" y="4437000"/>
            <a:ext cx="914400" cy="1257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5435640" y="4005360"/>
            <a:ext cx="914400" cy="123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"/>
          <p:cNvGraphicFramePr/>
          <p:nvPr/>
        </p:nvGraphicFramePr>
        <p:xfrm>
          <a:off x="3203640" y="549360"/>
          <a:ext cx="1800000" cy="127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3640" y="549360"/>
                    <a:ext cx="1800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908000" y="1557360"/>
          <a:ext cx="102888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8000" y="1557360"/>
                    <a:ext cx="102888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1" name="" descr=""/>
          <p:cNvPicPr/>
          <p:nvPr/>
        </p:nvPicPr>
        <p:blipFill>
          <a:blip r:embed="rId7">
            <a:lum bright="6000"/>
          </a:blip>
          <a:stretch/>
        </p:blipFill>
        <p:spPr>
          <a:xfrm>
            <a:off x="5219640" y="1628640"/>
            <a:ext cx="1143000" cy="1155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708360" y="2997360"/>
            <a:ext cx="1143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I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03" name=""/>
          <p:cNvSpPr/>
          <p:nvPr/>
        </p:nvSpPr>
        <p:spPr>
          <a:xfrm rot="20160000">
            <a:off x="971640" y="4581000"/>
            <a:ext cx="342720" cy="3207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496400">
            <a:off x="6948000" y="4508640"/>
            <a:ext cx="343080" cy="34272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360" y="-40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cover dir="u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21:12:37Z</dcterms:created>
  <dc:creator>wwww</dc:creator>
  <dc:description/>
  <dc:language>en-US</dc:language>
  <cp:lastModifiedBy>hh</cp:lastModifiedBy>
  <dcterms:modified xsi:type="dcterms:W3CDTF">2007-12-29T23:00:37Z</dcterms:modified>
  <cp:revision>20</cp:revision>
  <dc:subject/>
  <dc:title>Diapositiva 1</dc:title>
</cp:coreProperties>
</file>