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0.gif" ContentType="image/gif"/>
  <Override PartName="/ppt/media/image5.gif" ContentType="image/gif"/>
  <Override PartName="/ppt/media/image4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9.gif" ContentType="image/gif"/>
  <Override PartName="/ppt/media/Track09.wav" ContentType="audio/x-wav"/>
  <Override PartName="/ppt/media/image13.gif" ContentType="image/gif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055E-7E7C-443B-B064-20D1F491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8721D-277B-4ACF-A9CB-F6CDFF60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9B306-97AA-486B-A664-3C1A77FE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0C53B-ADFC-4CCC-9FF1-43C410DD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58EBA-5EE1-4B4A-9C46-CB250D05E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2FE5-16FB-41D4-87A1-410B2922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2C6E-D01E-4771-8A50-63215D2F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4494-6AF0-4772-8FD5-C62D9521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836E-C375-43E7-A711-9120838D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B7522-0F9D-4DC9-81B0-5DF4C490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3EA54-2010-41A3-9D19-3DC76E5E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C9DD-B8DA-4F1A-95D2-69454BEB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48AC-E574-43BF-8505-EA40011E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2C39-63E2-4D71-B73E-93A862A7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7F58-42CB-4B86-AEB9-3F01F30B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7328-5F95-484D-B45A-C26C7E88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1CD9A-C1D2-4225-8B84-AEA82026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CB9D-7729-4A2F-81B0-699DA1A8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D87BD-7936-442B-B789-95020766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6C878-D7A6-4829-B596-B2A445EE6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9E1C1-BC7E-4540-B1FF-B6AEDBAB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5D6BB-011E-4239-AE76-D1D31B3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909A4-62A9-4E17-B996-EB91C529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2B86-4A56-4162-9E1C-93B3797A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EA2B-6F08-4374-AE6A-4577DEFD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0504-4AE5-4B9B-875A-5D84EB47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AB5D8-EA8B-426A-86F6-1F4755D9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E9AE3-E5AA-4443-9C7A-01A1DC01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83E9-873C-429B-8A1C-FA8294C99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B4C50-F2EF-4F96-A563-672EE57C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703E-4B41-45B0-9AEB-06FE8FD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FB01-6EEA-47D0-A530-E80DE15C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EC31B-2CD6-4F26-8129-9B2E83E5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F6BC-8046-466B-980E-77C6B88E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FF70-D38E-4926-9FDF-0472E79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E260C-8BE8-4361-BE07-A014531E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5B54F-9E46-4C2A-A43A-1B805C70860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C5D7-E0C9-4D89-9E01-422D52FFCF0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A33AB-101A-45B6-B390-F0725A6C5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Track09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2.gif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image" Target="../media/image17.gif"/><Relationship Id="rId7" Type="http://schemas.openxmlformats.org/officeDocument/2006/relationships/image" Target="../media/image18.gif"/><Relationship Id="rId8" Type="http://schemas.openxmlformats.org/officeDocument/2006/relationships/image" Target="../media/image2.gif"/><Relationship Id="rId9" Type="http://schemas.openxmlformats.org/officeDocument/2006/relationships/image" Target="../media/image4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26920" y="549360"/>
            <a:ext cx="7561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8000"/>
                </a:solidFill>
                <a:latin typeface="Lucida Calligraphy"/>
              </a:rPr>
              <a:t>Mensaje de Navidad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545080" cy="531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462840" y="641988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66ff66"/>
                </a:solidFill>
                <a:latin typeface="Lucida Calligraphy"/>
              </a:rPr>
              <a:t>Sonido - man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wheel spokes="1"/>
    <p:sndAc>
      <p:stSnd>
        <p:snd r:embed="rId2" name="Track09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100"/>
                            </p:stCondLst>
                            <p:childTnLst>
                              <p:par>
                                <p:cTn id="16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200"/>
                            </p:stCondLst>
                            <p:childTnLst>
                              <p:par>
                                <p:cTn id="21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3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4,-86,-14)"/>
                                      </p:to>
                                    </p:set>
                                    <p:set>
                                      <p:cBhvr>
                                        <p:cTn id="24" dur="500" autoRev="1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1300"/>
                            </p:stCondLst>
                            <p:childTnLst>
                              <p:par>
                                <p:cTn id="26" nodeType="afterEffect" fill="hold" presetClass="exit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3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79280" y="1773360"/>
            <a:ext cx="2737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tristeza, alégrate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Gozo.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3141720"/>
            <a:ext cx="28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1557360"/>
            <a:ext cx="2952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enemigos, reconcíliate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Paz</a:t>
            </a:r>
            <a:br>
              <a:rPr sz="2800"/>
            </a:b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Si tienes amigos, búscalos.</a:t>
            </a:r>
            <a:br>
              <a:rPr sz="2800"/>
            </a:br>
            <a:r>
              <a:rPr b="1" i="1" lang="en-US" sz="2800" spc="-1" strike="noStrike">
                <a:solidFill>
                  <a:srgbClr val="ffccff"/>
                </a:solidFill>
                <a:latin typeface="Comic Sans MS"/>
              </a:rPr>
              <a:t>La Navidad es Encuentr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268360" y="765000"/>
            <a:ext cx="259272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Feliz Navidad!"/>
          <p:cNvPicPr/>
          <p:nvPr/>
        </p:nvPicPr>
        <p:blipFill>
          <a:blip r:embed="rId3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Feliz Navidad!"/>
          <p:cNvPicPr/>
          <p:nvPr/>
        </p:nvPicPr>
        <p:blipFill>
          <a:blip r:embed="rId4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1332000" y="5157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600"/>
                            </p:stCondLst>
                            <p:childTnLst>
                              <p:par>
                                <p:cTn id="76" nodeType="afterEffect" fill="hold" presetClass="entr" presetID="2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66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9640" y="1989000"/>
            <a:ext cx="230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a tus padres a tu lado, ayúdalos.</a:t>
            </a:r>
            <a:br>
              <a:rPr sz="2000"/>
            </a:b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Don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3068640"/>
            <a:ext cx="2879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Si tienes tinieblas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enciende tu lámpara,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Lucida Calligraphy"/>
              </a:rPr>
              <a:t>La Navidad es Luz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484360" y="1989000"/>
            <a:ext cx="3167280" cy="31672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Feliz Navidad!!!"/>
          <p:cNvPicPr/>
          <p:nvPr/>
        </p:nvPicPr>
        <p:blipFill>
          <a:blip r:embed="rId3"/>
          <a:stretch/>
        </p:blipFill>
        <p:spPr>
          <a:xfrm>
            <a:off x="250920" y="260280"/>
            <a:ext cx="1077840" cy="1297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eliz Navidad!!!"/>
          <p:cNvPicPr/>
          <p:nvPr/>
        </p:nvPicPr>
        <p:blipFill>
          <a:blip r:embed="rId4"/>
          <a:stretch/>
        </p:blipFill>
        <p:spPr>
          <a:xfrm>
            <a:off x="7885080" y="189000"/>
            <a:ext cx="107460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4467240" y="3381480"/>
            <a:ext cx="209520" cy="95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84360" y="1628640"/>
            <a:ext cx="280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soberbia, sepúltal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Humildad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deudas, págalas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Justicia.</a:t>
            </a:r>
            <a:br>
              <a:rPr sz="2000"/>
            </a:b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Si tienes errores, reflexiona.</a:t>
            </a: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Lucida Calligraphy"/>
              </a:rPr>
              <a:t>La Navidad es Verdad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24360" y="2060640"/>
            <a:ext cx="2376360" cy="21700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6156360" y="549360"/>
            <a:ext cx="2712960" cy="3527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79280" y="5877000"/>
            <a:ext cx="1319400" cy="801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435640" y="260280"/>
            <a:ext cx="273672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pecados, conviértete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Gracia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Si tienes odio, olvídalo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La Navidad es Amor.</a:t>
            </a:r>
            <a:br>
              <a:rPr sz="2400"/>
            </a:b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Lucida Calligraphy"/>
              </a:rPr>
              <a:t>FELIZ NAVIDAD Y MUCHO AMOR</a:t>
            </a:r>
            <a:r>
              <a:rPr b="1" lang="en-US" sz="2400" spc="-1" strike="noStrike">
                <a:solidFill>
                  <a:srgbClr val="ffffff"/>
                </a:solidFill>
                <a:latin typeface="Lucida Calligraphy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524720" y="5796000"/>
            <a:ext cx="1319400" cy="8017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3995640" y="3860640"/>
            <a:ext cx="1057320" cy="10954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987640" y="3141720"/>
            <a:ext cx="990720" cy="115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763640" y="3357720"/>
            <a:ext cx="1168560" cy="1168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5"/>
          <a:stretch/>
        </p:blipFill>
        <p:spPr>
          <a:xfrm>
            <a:off x="1258920" y="450864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6"/>
          <a:stretch/>
        </p:blipFill>
        <p:spPr>
          <a:xfrm>
            <a:off x="468360" y="3429000"/>
            <a:ext cx="920880" cy="1203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7"/>
          <a:stretch/>
        </p:blipFill>
        <p:spPr>
          <a:xfrm>
            <a:off x="1547640" y="2133720"/>
            <a:ext cx="703440" cy="1849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8"/>
          <a:stretch/>
        </p:blipFill>
        <p:spPr>
          <a:xfrm>
            <a:off x="0" y="5877000"/>
            <a:ext cx="1319040" cy="801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Feliz Navidad!"/>
          <p:cNvPicPr/>
          <p:nvPr/>
        </p:nvPicPr>
        <p:blipFill>
          <a:blip r:embed="rId9"/>
          <a:stretch/>
        </p:blipFill>
        <p:spPr>
          <a:xfrm>
            <a:off x="179280" y="18900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Feliz Navidad!"/>
          <p:cNvPicPr/>
          <p:nvPr/>
        </p:nvPicPr>
        <p:blipFill>
          <a:blip r:embed="rId10"/>
          <a:stretch/>
        </p:blipFill>
        <p:spPr>
          <a:xfrm>
            <a:off x="7812000" y="189000"/>
            <a:ext cx="1141560" cy="1100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7400"/>
                            </p:stCondLst>
                            <p:childTnLst>
                              <p:par>
                                <p:cTn id="14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9400"/>
                            </p:stCondLst>
                            <p:childTnLst>
                              <p:par>
                                <p:cTn id="16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400"/>
                            </p:stCondLst>
                            <p:childTnLst>
                              <p:par>
                                <p:cTn id="1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3400"/>
                            </p:stCondLst>
                            <p:childTnLst>
                              <p:par>
                                <p:cTn id="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40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7400"/>
                            </p:stCondLst>
                            <p:childTnLst>
                              <p:par>
                                <p:cTn id="22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9400"/>
                            </p:stCondLst>
                            <p:childTnLst>
                              <p:par>
                                <p:cTn id="24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14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3400"/>
                            </p:stCondLst>
                            <p:childTnLst>
                              <p:par>
                                <p:cTn id="2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8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843280" y="5013360"/>
            <a:ext cx="3085920" cy="14763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3657600" cy="3943440"/>
          </a:xfrm>
          <a:prstGeom prst="rect">
            <a:avLst/>
          </a:prstGeom>
          <a:ln w="0">
            <a:noFill/>
          </a:ln>
        </p:spPr>
      </p:pic>
    </p:spTree>
  </p:cSld>
  <p:transition advTm="10000">
    <p:wedg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4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12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3" dur="1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xit" presetID="2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23:59:53Z</dcterms:created>
  <dc:creator>Usuario</dc:creator>
  <dc:description/>
  <dc:language>en-US</dc:language>
  <cp:lastModifiedBy>HecvarF</cp:lastModifiedBy>
  <dcterms:modified xsi:type="dcterms:W3CDTF">2007-12-02T09:43:17Z</dcterms:modified>
  <cp:revision>4</cp:revision>
  <dc:subject/>
  <dc:title>Diapositiva 1</dc:title>
</cp:coreProperties>
</file>