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AAD9-1EB5-4410-A69C-A5DC9BAC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AEFE-634C-4F4A-908B-35F2B45A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1E9F-109A-4941-A9B4-8C9299B1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3011-CDD3-4E01-9EDB-082D783F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699F44-0CB5-470D-9578-4F260E8C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C54D9-E57D-4A1F-B1D2-36C418C2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1F432-6B60-4F34-85DB-CB3EA026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C6549-02DF-4290-86A9-B87D5F5C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D3637-FECA-4B66-B968-BD11190E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F0877-555C-4CE8-B3AD-A1F79A05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8941D2-0779-4341-86DD-987E5C58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B335-9F35-490C-94CF-A6C63BFE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FDE3B-C723-4E1C-BE41-16967C50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34625-314A-4C52-B99A-9D87D2AC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888D1-1FF5-41D1-BC74-FC8B8926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EEDA8-78A9-4D81-BE39-7FEA2222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FC5BF-300A-43F5-A3C6-A32613B1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04EE2-3D49-4CE0-955D-D35F402FA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26B66-7E55-4817-ADEF-F0B5A09D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088BA-764F-4611-BD29-F06E06AD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8DB75-17B4-4908-A0B2-2A3C796E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3B143-36F3-467B-93F4-489844F1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861B-9941-4F11-81D9-C47AC60E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367AE-F88F-47FE-B5AF-19A4CB0B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2A86F-38E3-4F02-AE2B-0F039A69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A7CB0-D949-424B-A9F6-34C26587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BF3EF-AE50-4151-97B3-76D72483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38515-3C53-4FFC-8ACE-7259DA4E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07EFE-26C6-44DF-A68C-A9A0F460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FDF57-1BFC-4947-9300-FD5D74F8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BE2FFA-F618-4E7B-8C2B-04DDFF32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9C9B78-658D-4B6F-A18F-3E60B498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56324D-B4D6-4BDF-BB7A-6666C5F4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327F-B6CF-48EA-957D-E317F31D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024E50-74AA-4E1D-8C0F-67404AB9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0A1123-AA98-4E17-A3C4-9806D487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C8A690-7972-40F3-8FF1-063ABE11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FFB71A-1390-4177-85CB-EE82666B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FE9BDE-74F4-4F9F-9543-B2BF726F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9D031D-CAD1-4043-9356-8E454479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E4B12D-CE10-4EA7-BA88-2094C7A0D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C66C04-08E9-43E8-8F57-8DCDDB23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30E414-D50E-452F-9BAF-A40C52594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3264A9-604E-4EC8-87D8-EAF7B9EE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451-4F46-4639-9B7B-028F452B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289750-1FB1-4FC8-860B-7971526F0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914447-926D-4FE0-A619-9ADBED91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4FB605-C2F1-4D84-9112-7A83BF05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CE75D1-EB3D-4E72-A614-9C4B56B7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1427BF-1AD2-4E97-A7FD-6214C243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E8587-CA8A-4253-A16E-A34262E6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76FB05-5E8B-4347-A2E9-A336A88F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1D141B-F576-4D46-A576-3F9EB515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810BC7-DE39-4E96-A4F9-4B72D986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45664A-F07B-4704-815D-86786523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BD44-4547-463F-B9CF-43286FF1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D4D24D-AAA7-4093-AC81-EB8C2AB2E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56E940-7920-4E73-930D-A2CA8B0B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058879-93B5-40C4-BB9C-71B503640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BDB9F4-7386-4F12-8CA4-9EB6B1817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1F3E8C-5E20-46D5-9B22-D36E8406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7CEC3A-4302-4D3C-A2F0-7196938A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39DC95-D2CE-46F4-B90D-AE7B02E3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5AD835-6260-4D25-929E-F47AFDC3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3217DD-8827-4007-9FB8-DF49189A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1811F1-68D8-492D-AA82-211CF281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4FB5-40CA-4873-9AFB-76D4ABEF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0815F8-1BB3-4A46-BB6F-41622365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C4C0C5-2F1A-4E38-90B9-2D350322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B488A6-3088-4B81-86E7-94092457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2BF4-1890-4274-8F6E-FACA3D8F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2DC0-7963-4036-A798-91FE8CF3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4CC1-E3E0-4F0E-B674-73A6FE17D75D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6 Conector recto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7 Conector recto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10 Elipse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9B28-83A5-46D6-9447-6EC95CCCE878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6 Conector recto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E7B2-175F-4F43-B525-0C89E296C97B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6 Conector recto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7 Conector recto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F089-A93B-4AA1-B832-BCBE6AB56BC4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797E-FD91-41E0-85BE-F7D0D3D897AC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8B4C-050F-440A-A181-7AD481F22807}" type="slidenum">
              <a:rPr b="0" lang="es-ES_tradnl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8 Rectángulo" descr=""/>
          <p:cNvPicPr/>
          <p:nvPr/>
        </p:nvPicPr>
        <p:blipFill>
          <a:blip r:embed="rId1"/>
          <a:stretch/>
        </p:blipFill>
        <p:spPr>
          <a:xfrm>
            <a:off x="-201600" y="-6480"/>
            <a:ext cx="9547200" cy="741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02:19:56Z</dcterms:created>
  <dc:creator>WinuE</dc:creator>
  <dc:description/>
  <dc:language>en-US</dc:language>
  <cp:lastModifiedBy>WinuE</cp:lastModifiedBy>
  <dcterms:modified xsi:type="dcterms:W3CDTF">2008-05-23T03:47:22Z</dcterms:modified>
  <cp:revision>3</cp:revision>
  <dc:subject/>
  <dc:title>Diapositiva 1</dc:title>
</cp:coreProperties>
</file>