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EA28-0EED-4E43-BD65-B8D52663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5FE-B379-41B0-9A4B-566E7BE6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AC2-B89B-49C5-A7EE-63C4124C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E06A-B7C0-4995-BE21-B0713EEE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9E7A-34E9-454D-BEDE-08A7D9B7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A9DE-B743-48F6-8206-05990ECD1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9E8-F386-407D-B743-9ACB3530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0031-04F2-464C-883A-BDC7537F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F73-75E5-4ABE-BBDE-68EA8CCC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FD8E-4B09-4C8D-AEE2-8FA11929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7D31-DFB0-4169-BE6F-3CECBA7E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CC33-AEF3-47DD-BA23-2CA5E772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79F0-2A0E-47AA-A8F6-368F3F60B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oleObject" Target="../embeddings/oleObject1.bin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Hablemos de</a:t>
            </a:r>
            <a:br>
              <a:rPr sz="5400"/>
            </a:br>
            <a:r>
              <a:rPr b="1" i="1" lang="es-ES_tradnl" sz="5400" spc="-1" strike="noStrike">
                <a:solidFill>
                  <a:srgbClr val="ffffff"/>
                </a:solidFill>
                <a:latin typeface="Arial"/>
              </a:rPr>
              <a:t>Rentabilidad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 ya se llevaron 9…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fffff"/>
                </a:solidFill>
                <a:latin typeface="Arial"/>
              </a:rPr>
              <a:t>EL HOMBRE MIRA DESOLADO A LA MUJER Y LE DICE: “Y BUENO VIEJA, AL MENOS NOS QUEDA 1 CAMIÓN DE LA TAN RENTABLE SOJA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381636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351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814716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n eso llega el contador y les dice que COMO GANARON 1, tienen que pagarle al estado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35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AS GANANCIAS,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,2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l IMPUESTO AL CHEQUE y 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de IMPUESTO A LOS BIENES PERSONAL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Así que me llevo el acoplado y </a:t>
            </a: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USTEDES SE QUEDAN CON EL CHA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132000" y="4432320"/>
          <a:ext cx="2573640" cy="1795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4432320"/>
                    <a:ext cx="2573640" cy="17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erlin Sans FB"/>
              </a:rPr>
              <a:t>ESTA ES LA REALIDAD DEL CAM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407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S BUENO QUE SE SEP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66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n matrimonio de productores que vivían en el campo, durante la cena empezaron a planear lo que harían con el dinero producido por la soja sembrada en sus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0 hectárea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ese dinero pensaban llevar la luz a su campo y arreglar los caminos de acce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de haber trabajado la tierra arduamente durante 6 meses, de sol a sol, y de haber sufrido al compás de lo que les deparaba el clim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Hasta que por fin llegó el momento de la cosecha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Como la soja le había rendido bien (30 quintales por hectárea) lograron cargar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10 camiones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39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2436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70036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732720" y="4076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003640" y="5084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093080" y="5084640"/>
            <a:ext cx="1834920" cy="741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47636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851280" y="595008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6084720" y="5950080"/>
            <a:ext cx="18352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51"/>
                            </p:stCondLst>
                            <p:childTnLst>
                              <p:par>
                                <p:cTn id="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51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351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851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351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851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351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851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2351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3851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tonces vino el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quinist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que les cosechó la “tan rentable soja” y les dijo que les iba a cobrar el 10%, a lo que el matrimonio le respondió que bueno, total se llevaría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 camió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92360" y="4941720"/>
            <a:ext cx="1835280" cy="7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951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50289E-006 L 0.70087 -1.50289E-006 E">
                                      <p:cBhvr>
                                        <p:cTn id="106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Luego vino el dueño de la empresa de transporte y les dijo que les iba a cobrar un flete de $85 por tonelada; como eran 300 toneladas e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10%.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Por lo que el matrimonio dijo bueno, total sería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otro camió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419640" y="5300640"/>
            <a:ext cx="183492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51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71676E-006 L 0.64566 -2.71676E-006 E">
                                      <p:cBhvr>
                                        <p:cTn id="119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82929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Después llamaron al acopiador para comercializar la “tan redituable soja” y el comerciante les dijo que bueno, pero que el ESTADO había dispuesto una RETENCIÓN DEL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4%</a:t>
            </a: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 sobre la rentable soja, a lo que el matrimonio dijo que bueno, entregaremos </a:t>
            </a: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4 camiones y medio má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15772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76360" y="61167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348000" y="530064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5219640" y="6116760"/>
            <a:ext cx="1835280" cy="74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7093080" y="5445000"/>
          <a:ext cx="1062000" cy="739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093080" y="5445000"/>
                    <a:ext cx="1062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51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551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51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1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551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2948E-006 L 0.97066 -0.00162 E">
                                      <p:cBhvr>
                                        <p:cTn id="144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-2.71676E-006 L 0.66146 -2.71676E-006 E">
                                      <p:cBhvr>
                                        <p:cTn id="148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4.50867E-006 L 0.84253 -4.50867E-006 E">
                                      <p:cBhvr>
                                        <p:cTn id="152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9711E-006 L 0.45678 -4.9711E-006 E">
                                      <p:cBhvr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71676E-006 L 0.30712 -2.71676E-006 E">
                                      <p:cBhvr>
                                        <p:cTn id="16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Hasta acá van </a:t>
            </a:r>
            <a:r>
              <a:rPr b="1" lang="es-ES_tradnl" sz="5400" spc="-1" strike="noStrike">
                <a:solidFill>
                  <a:srgbClr val="ffffff"/>
                </a:solidFill>
                <a:latin typeface="Arial"/>
              </a:rPr>
              <a:t>6 camiones y medio</a:t>
            </a:r>
            <a:r>
              <a:rPr b="0" lang="es-ES_tradnl" sz="5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908000" y="5013360"/>
            <a:ext cx="1835280" cy="741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95280" y="407664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987640" y="580536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300720" y="4221000"/>
            <a:ext cx="1835280" cy="74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3276720" y="414972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4716360" y="5084640"/>
            <a:ext cx="1835280" cy="74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6877080" y="5892840"/>
          <a:ext cx="1008000" cy="70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77080" y="5892840"/>
                    <a:ext cx="1008000" cy="70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1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1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51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51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1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51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51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0755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Más tarde vinie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on Monsanto y Don Cargill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que les dijeron que los insumos retirados para su campaña de soja representaban $600 por hectárea y entonces por las 100 hectáreas era u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5%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de lo producido, entonces se llevaron 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2 camiones y medio má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659640" y="5516640"/>
          <a:ext cx="1063440" cy="744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59640" y="5516640"/>
                    <a:ext cx="106344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11280" y="5516640"/>
            <a:ext cx="1834920" cy="7412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3419640" y="5589720"/>
            <a:ext cx="187308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499999970197678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351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351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351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04046E-006 L 0.97847 -0.00139 E">
                                      <p:cBhvr>
                                        <p:cTn id="20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9.82659E-007 L 0.7717 9.82659E-007 E">
                                      <p:cBhvr>
                                        <p:cTn id="210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5434E-006 L 0.34357 -0.00162 E">
                                      <p:cBhvr>
                                        <p:cTn id="214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02:32:07Z</dcterms:created>
  <dc:creator>WinuE</dc:creator>
  <dc:description/>
  <dc:language>en-US</dc:language>
  <cp:lastModifiedBy>Usuario</cp:lastModifiedBy>
  <dcterms:modified xsi:type="dcterms:W3CDTF">2008-03-26T12:23:39Z</dcterms:modified>
  <cp:revision>5</cp:revision>
  <dc:subject/>
  <dc:title>Hablemos de Rentabilidad…</dc:title>
</cp:coreProperties>
</file>