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Blackadder IT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52841-3B98-41FC-AC76-E99526CB151E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945A-E1D9-4A74-A56D-98788174B249}" type="slidenum">
              <a:rPr b="0" lang="es-ES_tradnl" sz="1200" spc="-1" strike="noStrike">
                <a:solidFill>
                  <a:srgbClr val="000000"/>
                </a:solidFill>
                <a:latin typeface="Blackadder IT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523F-9347-475F-85B5-0B58F9FC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21B-8779-4EC5-84B2-ACE5829C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CB8C-BADD-4E55-9413-F37206D66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2DA1-0686-4D55-8A61-62073EA2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85CE-6A64-4274-B907-39144208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503-DE82-46C4-88B4-019EDFFD9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E5A-3D8B-4A49-A2D8-5C0E54D1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83F4-9522-4967-997D-422FA855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E1A-4A3B-4AC2-894C-990ABDC6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B0D-7847-4CAF-AEAB-7C397155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EADD-6C3A-49FE-8200-534E2CE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E5EC-0DF9-4E4B-8E16-94C5B14D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lackadder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073B-6F85-4078-8A89-0FAFB70C25C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lackadder IT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2498906674_d9e4438546_b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0"/>
            <a:ext cx="885816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200" spc="-1" strike="noStrike">
                <a:solidFill>
                  <a:srgbClr val="161645"/>
                </a:solidFill>
                <a:latin typeface="Britannic Bold"/>
                <a:ea typeface="바탕"/>
              </a:rPr>
              <a:t>La Fundación Con Vida tiene el placer de invitarles al Conversatori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“</a:t>
            </a:r>
            <a:r>
              <a:rPr b="1" lang="es-CO" sz="3200" spc="-1" strike="noStrike">
                <a:solidFill>
                  <a:srgbClr val="d4302c"/>
                </a:solidFill>
                <a:latin typeface="Script MT Bold"/>
                <a:ea typeface="바탕"/>
              </a:rPr>
              <a:t>El  Origen de los Paisas”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161645"/>
                </a:solidFill>
                <a:latin typeface="Script MT Bold"/>
                <a:ea typeface="바탕"/>
              </a:rPr>
              <a:t>Por: Ricardo Saldarriaga Gavi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161645"/>
                </a:solidFill>
                <a:latin typeface="Script MT Bold"/>
                <a:ea typeface="바탕"/>
              </a:rPr>
              <a:t>Una aproximación arqueológica a la identificación de las huellas prehispánicas  de nuestros múltiples orígenes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Mayo 23 de 2008, 5:00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Sede Fundación Con Vid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ra 68 A No. 46-A-77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Valor: $20.000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300" spc="-1" strike="noStrike">
                <a:solidFill>
                  <a:srgbClr val="161645"/>
                </a:solidFill>
                <a:latin typeface="Britannic Bold"/>
                <a:ea typeface="Arial"/>
              </a:rPr>
              <a:t>(incluye copa de vino, pasabocas, plato fuerte y sorpresa musical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Confirmar asistencia al Tel: 2600237-2602082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161645"/>
                </a:solidFill>
                <a:latin typeface="Britannic Bold"/>
                <a:ea typeface="Arial"/>
              </a:rPr>
              <a:t>e-mail: fconvida@gmail.com</a:t>
            </a:r>
            <a:r>
              <a:rPr b="0" lang="es-CO" sz="2000" spc="-1" strike="noStrike">
                <a:solidFill>
                  <a:srgbClr val="161645"/>
                </a:solidFill>
                <a:latin typeface="Britannic Bold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161645"/>
                </a:solidFill>
                <a:latin typeface="Script MT Bold"/>
                <a:ea typeface="Arial"/>
              </a:rPr>
              <a:t>¡Esperamos Contar Con Tu Agradable Presenci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20:21:53Z</dcterms:created>
  <dc:creator>   </dc:creator>
  <dc:description/>
  <dc:language>en-US</dc:language>
  <cp:lastModifiedBy>WinuE</cp:lastModifiedBy>
  <dcterms:modified xsi:type="dcterms:W3CDTF">2008-05-21T00:44:03Z</dcterms:modified>
  <cp:revision>24</cp:revision>
  <dc:subject/>
  <dc:title>Conversatorio  “El  Origen De  Los Paisas”  </dc:title>
</cp:coreProperties>
</file>