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Butterfly.wav" ContentType="audio/x-wav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AD4C-0376-470D-AC42-6AF8E023F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B5E7-9CAD-474F-9325-F67B9318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4CDA-01E6-454F-8E20-A24212425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ECEB-0D7D-490D-92C7-1DF2DF55E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DFC0-710A-4B97-BDF0-24040314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62A7-49DA-40F7-88BB-C3A19012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8D42-E053-450D-8945-68FC00D0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508C-693A-4D99-AC96-BD0921FF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2F2F-22D8-42E8-8B0B-C44B133D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96C2-2AB8-4D56-8B64-3D9A63DA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34D7-5180-4354-95F8-BEF3289A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BB8F-0745-4E5F-A4B7-17838AEC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3BD2-68E8-4936-BBBE-DE7690ABF2C6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utterfly.wav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333360"/>
            <a:ext cx="2952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5493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6600"/>
                </a:solidFill>
                <a:latin typeface="Arial"/>
              </a:rPr>
              <a:t>Cada persona es mi flor y allí voy yo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580536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6600"/>
                </a:solidFill>
                <a:latin typeface="Arial"/>
              </a:rPr>
              <a:t>Elige tú flor y enví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84720" y="61657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be0e3"/>
                </a:solidFill>
                <a:latin typeface="Arial"/>
              </a:rPr>
              <a:t>Llevo mús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219640" y="5373720"/>
            <a:ext cx="37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c00"/>
                </a:solidFill>
                <a:latin typeface="Arial"/>
              </a:rPr>
              <a:t>He aprendido....Que deberíamos estar contentos que Dios no nos dio todo lo que pedim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prendido....Que el dinero no compra am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4360" y="404640"/>
            <a:ext cx="136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6633"/>
                </a:solidFill>
                <a:latin typeface="Arial"/>
              </a:rPr>
              <a:t>He aprendido....Que el dinero no compra am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00360" y="587700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Arial"/>
              </a:rPr>
              <a:t>He aprendido....Que las pequeñas cosas de todos los días hacen la vida tan espectacul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32360" y="549360"/>
            <a:ext cx="37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He aprendido....Que bajo la coraza más dura hay alguien que quiere ser apreciado y am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501336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He aprendido....Que El Señor no lo hizo todo en un día. ¿Qué me hace pensar que yo pue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19640" y="260280"/>
            <a:ext cx="453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He aprendido....Que cuando planeas vengarte de alguien, estás dejando que esa persona continúe hiriéndo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1052640"/>
            <a:ext cx="2305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9900"/>
                </a:solidFill>
                <a:latin typeface="Arial"/>
              </a:rPr>
              <a:t>He aprendido....Que el amor y no el tiempo cierra todas las herid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56360" y="333360"/>
            <a:ext cx="298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be0e3"/>
                </a:solidFill>
                <a:latin typeface="Arial"/>
              </a:rPr>
              <a:t>He aprendido....Que la forma más fácil de crecer como persona es rodearme de gente más capaz que y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32000" y="5734080"/>
            <a:ext cx="72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He aprendido....Que todos con los que te encuentras se merecen que los recibas con una sonris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4365720"/>
            <a:ext cx="201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He aprendido....Que nadie es perfecto hasta que te enamoras de esa person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-171360"/>
            <a:ext cx="9144000" cy="7200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333360"/>
            <a:ext cx="244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He aprendido....Que cuando sólo una persona me dice, "Tú me alegraste el día", me alegra el dí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8000" y="5373720"/>
            <a:ext cx="23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e aprendido....Que la vida es dura pero yo soy más dur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1197000"/>
            <a:ext cx="223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He aprendido....Que las oportunidades nunca se pierden; alguien tomará la que dejaste pasar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4437000"/>
            <a:ext cx="244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ccff"/>
                </a:solidFill>
                <a:latin typeface="Arial"/>
              </a:rPr>
              <a:t>He aprendido....Que debemos mantener nuestras palabras tiernas, porque mañana tal vez debamos masticarlas</a:t>
            </a:r>
            <a:r>
              <a:rPr b="0" lang="es-ES" sz="1800" spc="-1" strike="noStrike">
                <a:solidFill>
                  <a:srgbClr val="33cc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32000" y="549360"/>
            <a:ext cx="37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9900"/>
                </a:solidFill>
                <a:latin typeface="Arial"/>
              </a:rPr>
              <a:t>He aprendido....Que una sonrisa es una forma muy barata de mejorar la presen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87280" y="1628640"/>
            <a:ext cx="273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ccff"/>
                </a:solidFill>
                <a:latin typeface="Arial"/>
              </a:rPr>
              <a:t>He aprendido... Que no puedo decidir como me siento, pero si puedo decidir que voy a hacer al respec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4437000"/>
            <a:ext cx="237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He aprendido....Que mientras menos tiempo tengo disponible, más cosas termi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140360" y="33336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e aprendido que la mujeres alegran a los hombres y los hombres alegran a las mujeres, pero siempre cuando ambos se tratan con cariñ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4360" y="189000"/>
            <a:ext cx="37432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Arial"/>
              </a:rPr>
              <a:t>He aprendido que los buenos amigos y amigas se preocupan de saber que me agrada y además conocen mi fecha de naci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56360" y="620640"/>
            <a:ext cx="259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ff"/>
                </a:solidFill>
                <a:latin typeface="Arial"/>
              </a:rPr>
              <a:t>He aprendido que entregar amor a todos  es mi mejor arma  y deseo compartir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3716280"/>
            <a:ext cx="30956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Hoy he aprend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Que cuando dos 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Quieren, además 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66"/>
                </a:solidFill>
                <a:latin typeface="Arial"/>
              </a:rPr>
              <a:t>ami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90792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be0e3"/>
                </a:solidFill>
                <a:latin typeface="Arial"/>
              </a:rPr>
              <a:t>He aprendido....Que cuando te amarras a tu amargura, la felicidad amarrará en otro muel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1280" y="549360"/>
            <a:ext cx="3744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"/>
              </a:rPr>
              <a:t>Hoy he aprend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"/>
              </a:rPr>
              <a:t>Que reir me hace bien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Arial"/>
              </a:rPr>
              <a:t>Ser alegre es contagioso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333360"/>
            <a:ext cx="324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Hoy he aprend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Que querer es hermo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Y amar es div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16000" y="765000"/>
            <a:ext cx="2087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9900"/>
                </a:solidFill>
                <a:latin typeface="Arial"/>
              </a:rPr>
              <a:t>Hoy he aprendido que d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9900"/>
                </a:solidFill>
                <a:latin typeface="Arial"/>
              </a:rPr>
              <a:t>Pueden ser u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64000" y="260280"/>
            <a:ext cx="3240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Arial"/>
              </a:rPr>
              <a:t>Hoy he aprendido que ser positivo 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Arial"/>
              </a:rPr>
              <a:t>Usar mi intelig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12000" y="476280"/>
            <a:ext cx="2881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be0e3"/>
                </a:solidFill>
                <a:latin typeface="Arial"/>
              </a:rPr>
              <a:t>Hoy he aprend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bbe0e3"/>
                </a:solidFill>
                <a:latin typeface="Arial"/>
              </a:rPr>
              <a:t>Que todos tienen capacidad de amar, pero algunos aún  no lo sa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80000" y="4797360"/>
            <a:ext cx="302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Hoy he aprendido que volar es hermoso y que se puede hacer sen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00720" y="549360"/>
            <a:ext cx="39589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ff"/>
                </a:solidFill>
                <a:latin typeface="Arial"/>
              </a:rPr>
              <a:t>Hoy he aprendido que sent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ff"/>
                </a:solidFill>
                <a:latin typeface="Arial"/>
              </a:rPr>
              <a:t>Tiene varias esca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ff"/>
                </a:solidFill>
                <a:latin typeface="Arial"/>
              </a:rPr>
              <a:t>Y algunos no sabemos sub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ccff"/>
                </a:solidFill>
                <a:latin typeface="Arial"/>
              </a:rPr>
              <a:t>algunos pelda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43280" y="260280"/>
            <a:ext cx="295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bbe0e3"/>
                </a:solidFill>
                <a:latin typeface="Arial"/>
              </a:rPr>
              <a:t>Hoy he sentido el uso de los colores y que me pongo cada d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404640"/>
            <a:ext cx="331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ccff"/>
                </a:solidFill>
                <a:latin typeface="Arial"/>
              </a:rPr>
              <a:t>Hoy he sentido que siendo humilde, soy más grande y podero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4360" y="549360"/>
            <a:ext cx="208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Arial"/>
              </a:rPr>
              <a:t>Hoy he sentido que dar es, mi regoci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9280" y="40464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e aprendido....Que desearía haberle dicho a mi Padre que lo quiero, una vez más, antes de que fallecie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907920"/>
            <a:ext cx="2376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"/>
              </a:rPr>
              <a:t>Hoy he sentido que todos tenemos una inmensa capacidad de amar y pocos lo sabe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59280" y="4292640"/>
            <a:ext cx="338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Hoy he sentido que los sentidos se desarrollan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Y también se atrof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-181080" y="-142920"/>
            <a:ext cx="9325080" cy="70009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11280" y="404640"/>
            <a:ext cx="7416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Hoy he sentido que la vida es corta  y hermos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ff9900"/>
                </a:solidFill>
                <a:latin typeface="Arial"/>
              </a:rPr>
              <a:t>y deseo compartirlo conti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620640"/>
            <a:ext cx="187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e aprendido... Que cuando estás enamorado, se not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72360" y="333360"/>
            <a:ext cx="216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He aprendido....Que ser bondadoso es más importante que tener la raz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476280"/>
            <a:ext cx="230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Arial"/>
              </a:rPr>
              <a:t>He aprendido....Que nunca debemos rechazar el regalo de un niñ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549360"/>
            <a:ext cx="39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He aprendido... Que yo siempre puedo rezar por otro cuando no tengo las fuerzas para ayudarlo de alguna otra manera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56360" y="476280"/>
            <a:ext cx="244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66"/>
                </a:solidFill>
                <a:latin typeface="Arial"/>
              </a:rPr>
              <a:t>He aprendido....Que la vida es como un rollo de papel; mientras más se acerca a su fin, más rápido se acab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06:53:04Z</dcterms:created>
  <dc:creator>Pierworodny</dc:creator>
  <dc:description/>
  <dc:language>en-US</dc:language>
  <cp:lastModifiedBy>Juan Carlos Newman</cp:lastModifiedBy>
  <dcterms:modified xsi:type="dcterms:W3CDTF">2007-09-10T02:38:18Z</dcterms:modified>
  <cp:revision>9</cp:revision>
  <dc:subject/>
  <dc:title>Slajd 1</dc:title>
</cp:coreProperties>
</file>