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CLIC.WAV" ContentType="audio/x-wav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TristeeMelancolico.wav" ContentType="audio/x-wav"/>
  <Override PartName="/ppt/media/image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DE66-EA96-4BAE-8572-DEBDA832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76A5-A0A4-4D3E-A4EE-0F4CF9EE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4D3F-C01C-4168-905A-8890FFE8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265-41FB-4D00-AC87-9C109F17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118-3CA9-4260-8DE6-EF78DD653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AEDA-609F-4275-8976-2E4463F8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D6C5-8FEB-431A-8E36-BF249A75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CEF-4001-4C1D-9D4F-F6AEDFFD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C62A-F1D6-4E82-83DE-8BBB134E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A44-BDA6-4F96-9224-2DB80E0A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4458-8D99-4CD5-8175-C11B61E7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CAA-C260-4B55-8F49-1AAFCDE1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334B-8372-42E3-91CE-4332D7DCA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TristeeMelancolico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349360"/>
            <a:ext cx="369540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¿Cual es la razó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or la que estamos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 favor de la Paz?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7724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sp>
          <p:nvSpPr>
            <p:cNvPr id="53" name=""/>
            <p:cNvSpPr/>
            <p:nvPr/>
          </p:nvSpPr>
          <p:spPr>
            <a:xfrm>
              <a:off x="7772400" y="0"/>
              <a:ext cx="137160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153280" cy="6859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1920" y="431640"/>
            <a:ext cx="9047160" cy="602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714240"/>
            <a:ext cx="7499520" cy="552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7499520" cy="540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8280" cy="559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68360" y="580536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Nagasaki póst-holocausto 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16080" y="44280"/>
            <a:ext cx="6811920" cy="5169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537372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 palab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71640" y="1004760"/>
            <a:ext cx="74880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EN GU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L MUNDO ESTÁ DE L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E  e-mail  DEBE  RECORRER  LA 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CONVENCER INCLUSO A AQUELL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 NO QUIEREN COMPRENDER. 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IGIMOS QUE EN NUESTRO PLAN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LA PAZ SE SOBREPONGA A TODAS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4360" y="1187280"/>
            <a:ext cx="7848360" cy="4483080"/>
          </a:xfrm>
          <a:prstGeom prst="rect">
            <a:avLst/>
          </a:prstGeom>
          <a:noFill/>
          <a:ln w="0">
            <a:noFill/>
          </a:ln>
          <a:effectLst>
            <a:outerShdw dist="12600" dir="108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DIMOS  QUE  ESTE  e-mail  SEA  TRADUCID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A TODAS LAS LENGUA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ARA QUE 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IN DISTINCIÓN DE RAZA, DE COLO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 RELIGIÓN O DE NACIONALIDA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UEDAN PARTICIPAR DE ESTA GR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ETICIÓN POR LA PA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116000" y="333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Gracias por no romper esta cade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5054760"/>
            <a:ext cx="64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Que todos los seres, en todos el mundo, sean felices y bienaventurad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46000" y="620640"/>
            <a:ext cx="7471080" cy="5607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476360" y="3573360"/>
            <a:ext cx="59752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a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Pea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American Classic Extra Bold"/>
              </a:rPr>
              <a:t>Shant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609480"/>
            <a:ext cx="7734240" cy="54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59440" cy="44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595760" cy="61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661520" cy="514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4480" y="836640"/>
            <a:ext cx="7788240" cy="52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959880" cy="521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5640" y="271440"/>
            <a:ext cx="4883040" cy="639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700360" y="692280"/>
            <a:ext cx="3684600" cy="564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/>
  <dc:description/>
  <dc:language>en-US</dc:language>
  <cp:lastModifiedBy>Gaspar V.</cp:lastModifiedBy>
  <dcterms:modified xsi:type="dcterms:W3CDTF">2006-10-16T23:11:03Z</dcterms:modified>
  <cp:revision>30</cp:revision>
  <dc:subject/>
  <dc:title>Por la Paz</dc:title>
</cp:coreProperties>
</file>