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062-6757-4932-9758-04D299EC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BE4-9EE3-47D3-96C3-02FB4655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D86B-2323-4B4E-B189-11A58ED4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05B-8027-47DA-9E72-AD935165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A3E0-4C50-4A20-8261-8FBF930A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A36-DAB2-4ED7-BD20-A652CFAF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9E5-9B74-46CC-8369-ED58449F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C1F8-5376-400F-B4AC-69B5D884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9F4-51B8-4AF5-987D-5715FB55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516-1845-4251-AE4F-B2E5EFA7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26A-DB51-49E3-992A-17E12F98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87A-4BF3-4872-9430-8F9006FF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89AD-B8A0-4BD2-9E66-4A95340F4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40680" y="662940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UNCLASSIFIED//FO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v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e Challenge 2009 (EC09) Initiative B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/Present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Airborne Overhead Cooperative 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295280"/>
            <a:ext cx="0" cy="51055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                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44400" y="1341360"/>
            <a:ext cx="360" cy="1085760"/>
            <a:chOff x="644400" y="1341360"/>
            <a:chExt cx="360" cy="1085760"/>
          </a:xfrm>
        </p:grpSpPr>
        <p:sp>
          <p:nvSpPr>
            <p:cNvPr id="51" name=""/>
            <p:cNvSpPr/>
            <p:nvPr/>
          </p:nvSpPr>
          <p:spPr>
            <a:xfrm>
              <a:off x="644400" y="13413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4400" y="14446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4400" y="1547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4400" y="16509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4400" y="17524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4400" y="18558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4400" y="19591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4400" y="20620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0" y="3733920"/>
            <a:ext cx="4411800" cy="48708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ive/Capability Thread Support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4120"/>
            <a:ext cx="6821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itiativ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9556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1447920"/>
            <a:ext cx="434340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ganiz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09 Spons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l Description: ex: (Initiative) provides the capability to 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24480" y="4102200"/>
            <a:ext cx="441936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l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ition Pa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C09 Funding Stat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4029120"/>
            <a:ext cx="437832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ive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pability Thread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Capabilit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12640" y="1949400"/>
            <a:ext cx="13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4400" y="3733920"/>
            <a:ext cx="47196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turity/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6320" y="217080"/>
            <a:ext cx="65232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Insertio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320" y="1449360"/>
            <a:ext cx="86677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pecific EC09 Objective(s) does initiative sup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150480"/>
            <a:ext cx="688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tive Suppor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90320"/>
            <a:ext cx="8382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s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/desired integration with othe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print/Logi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cation, ground support req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(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pecify which network to be connected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 RF su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66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Expect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390680"/>
            <a:ext cx="838224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390680"/>
            <a:ext cx="83822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52280" y="35053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56:32Z</dcterms:created>
  <dc:creator>william.poppert</dc:creator>
  <dc:description/>
  <dc:language>en-US</dc:language>
  <cp:lastModifiedBy>john.kittle</cp:lastModifiedBy>
  <dcterms:modified xsi:type="dcterms:W3CDTF">2008-04-25T17:40:07Z</dcterms:modified>
  <cp:revision>12</cp:revision>
  <dc:subject/>
  <dc:title>Slide 1</dc:title>
</cp:coreProperties>
</file>